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D0A-70EA-4885-A2B6-15D3B834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091C-2697-4731-80B2-30DF350F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92D-A9B6-4D7D-A7CC-16AF591D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E41-6A68-40D4-B911-23113D2E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E7F-4FB3-4C94-994A-AF7DA802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ECC-EAB4-4532-B43B-71C6CF7C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AB8-5201-4136-B924-732E9F99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300-4039-42F5-A100-ED5D86FA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796-B493-429B-ACA8-96286E60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896-320D-446D-817C-B50F7A61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517-CE34-4FB2-A0E9-938EB349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631-23BD-4481-A02B-BCD422B3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3352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0593-2F33-47A7-A5C0-6E089D437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EF OFFICE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INING CURRICULUM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1200" y="8534520"/>
            <a:ext cx="574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9200" y="455760"/>
            <a:ext cx="5632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7162920"/>
            <a:ext cx="579096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ES 9-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096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33920" y="152280"/>
            <a:ext cx="2608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5400000">
            <a:off x="2245320" y="1531080"/>
            <a:ext cx="1855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TC-OPS-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263160" y="4881600"/>
            <a:ext cx="59407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Officer Training Curriculum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(Modules 9-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03T18:40:38Z</dcterms:created>
  <dc:creator>Debra Martin</dc:creator>
  <dc:description/>
  <dc:language>en-US</dc:language>
  <cp:lastModifiedBy>jboggs</cp:lastModifiedBy>
  <cp:lastPrinted>2003-01-16T17:19:56Z</cp:lastPrinted>
  <dcterms:modified xsi:type="dcterms:W3CDTF">2006-02-08T14:29:30Z</dcterms:modified>
  <cp:revision>32</cp:revision>
  <dc:subject/>
  <dc:title>US&amp;R WMD</dc:title>
</cp:coreProperties>
</file>